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49980-C2D3-4D3E-9B97-50EC44845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BFC82-B5A8-4D36-8A0D-6B45F73F1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6B3B8-0DF3-4A85-BC94-42AC4A0F4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F0696-6D0E-4FAD-B439-B56142A40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38DF6-BECB-42DB-9E1F-4DE37E486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CBCFA-26C2-47E8-9217-248C6C3E2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35703-4F0B-4D0D-A009-B2855080E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46A6C-CC33-4C0E-BB00-2818AFBE0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5D288-93DF-446A-9EC0-16A341D3B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EA604-F68E-4729-90C0-7CAAFAE15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7ADC1-B1C8-4443-A6B1-0337E2701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C7AE8-14B3-4B2E-98F2-2009523D5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29ECA-630D-4A3C-BA5B-366D3B2ED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B1A5A-D8CF-43FE-A3A5-1E0505620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AE253-9FA1-4976-8548-2AD2CD4C5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4A754-A9D8-4570-8FBA-D79DC89F3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36D6E-34E4-4C93-B6E8-BF451236E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4C13F-2167-4A2C-BAD2-8B1DD9E47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5A51E-FAC5-4F95-8E35-BD10C5E4F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39993-2ECD-4527-8CB8-83581BE07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C094A-62BE-4FBB-96C6-5E64F4174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DCA35-F855-4007-807C-A19F69023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572EE-EAE4-487D-B9C1-9FF360306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465E1-7389-4E10-8A20-F9539273E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1F315-89E7-44C6-BDD1-25403CB13B0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F6A36-1970-4FD6-B286-3506821B0FC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18C03-826A-4881-BB61-431195505517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EC6CF-3463-47BF-B1CA-59953CA44537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801A2-A504-4499-BFEB-D50CA2AF47E6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36811-445B-45AE-AB2F-8FED6B675ABB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D21B0-667C-43EA-ACEC-134107C7AAF0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8EB62-78D4-408C-AD32-BD74BBD0A88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C4B2D-CDD4-4354-9FA4-60A0EAD9EB1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568D2-B3C6-4E88-8ABC-4EE3C8F351A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B3A4A-8194-4B02-95EB-4277E08EB26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CE4D1-652E-41D6-B1F6-2E862F8505F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141E9-2B50-41E1-8565-70E4AD403B53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F090D-8ED4-4E83-9F82-82AF2942E950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5:52:21Z</dcterms:modified>
  <cp:revision>2</cp:revision>
  <dc:subject/>
  <dc:title>The R genetics package: tools for using genetic data in statistical  models</dc:title>
</cp:coreProperties>
</file>